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1015632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32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F5F2E4-42EC-4000-B9A7-B78743179D3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1251000" y="801720"/>
            <a:ext cx="505944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1251000" y="801720"/>
            <a:ext cx="505944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body"/>
          </p:nvPr>
        </p:nvSpPr>
        <p:spPr>
          <a:xfrm>
            <a:off x="755280" y="507996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27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AR PL ShanHeiSun Uni"/>
              </a:rPr>
              <a:t>Note – more relations defined and used in test ontology – not shown 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1251000" y="801720"/>
            <a:ext cx="505944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body"/>
          </p:nvPr>
        </p:nvSpPr>
        <p:spPr>
          <a:xfrm>
            <a:off x="755280" y="507996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I’m going to quickly take you through the running example I’m going to us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This is a stage 8 Drosophila embryo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1251000" y="801720"/>
            <a:ext cx="505944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body"/>
          </p:nvPr>
        </p:nvSpPr>
        <p:spPr>
          <a:xfrm>
            <a:off x="755280" y="507996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Check Fabian’s formal version to make vernacular form to deal with ‘or after’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1251000" y="801720"/>
            <a:ext cx="505944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1251000" y="801720"/>
            <a:ext cx="505944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body"/>
          </p:nvPr>
        </p:nvSpPr>
        <p:spPr>
          <a:xfrm>
            <a:off x="755280" y="507996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28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The VNC primordium has GMC 7-1b as a part from stage 9 to stage 13, but not before or aft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1251000" y="801720"/>
            <a:ext cx="505944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755280" y="507996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U2 neurons are part of the VNC primordium from stage 12, AND part of the VNC from stage 17 through larval stag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1251000" y="801720"/>
            <a:ext cx="505944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1251000" y="801720"/>
            <a:ext cx="505944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body"/>
          </p:nvPr>
        </p:nvSpPr>
        <p:spPr>
          <a:xfrm>
            <a:off x="755280" y="507996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Add or discuss – relation to has_part de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1251000" y="801720"/>
            <a:ext cx="505944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755280" y="507996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Add or discuss: Relation to part_of de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251000" y="801720"/>
            <a:ext cx="505944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body"/>
          </p:nvPr>
        </p:nvSpPr>
        <p:spPr>
          <a:xfrm>
            <a:off x="755280" y="507996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Neuroblasts delaminate from the VNE, and then bud off daughter cells called ganglion mother cell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251000" y="801720"/>
            <a:ext cx="505944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body"/>
          </p:nvPr>
        </p:nvSpPr>
        <p:spPr>
          <a:xfrm>
            <a:off x="755280" y="507996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Once delaminated, Neuroblasts become part of a growing tissue called the Ventral nerve cord primordium.  Ganglion mother cells stay close to the NB the bud fro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1251000" y="801720"/>
            <a:ext cx="505944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body"/>
          </p:nvPr>
        </p:nvSpPr>
        <p:spPr>
          <a:xfrm>
            <a:off x="755280" y="507996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This just shows the same thing a bit later.  More NBs, many more GMC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1251000" y="801720"/>
            <a:ext cx="505944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body"/>
          </p:nvPr>
        </p:nvSpPr>
        <p:spPr>
          <a:xfrm>
            <a:off x="755280" y="507996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This is just to show, that the timing of delamination is predictable for each type of neuroblast.  Different NBs delaminated at different tim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251000" y="801720"/>
            <a:ext cx="505944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755280" y="507996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43000" indent="-2430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243000"/>
                <a:tab algn="l" pos="6904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9226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This shows developmental lineage of the U2 neur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0200" indent="-2430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LcParenR"/>
              <a:tabLst>
                <a:tab algn="l" pos="243000"/>
                <a:tab algn="l" pos="6904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9226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during stage 8, neuroblast NB7-1 delaminates from the VNE and becomes part of the VNC primor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43000"/>
                <a:tab algn="l" pos="6904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9226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(ii) During stage 9, GMC 7-1b buds from NB 7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43000"/>
                <a:tab algn="l" pos="6904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9226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(iii) Towards the end of stage 12, GMC7-1b divides and one of the progeny starts to differentiate into a U2 neur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43000"/>
                <a:tab algn="l" pos="6904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9226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43000"/>
                <a:tab algn="l" pos="6904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9226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43000"/>
                <a:tab algn="l" pos="6904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9226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1251000" y="801720"/>
            <a:ext cx="505944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body"/>
          </p:nvPr>
        </p:nvSpPr>
        <p:spPr>
          <a:xfrm>
            <a:off x="755280" y="507996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We need a staging system to record when GMC 7-1b exists… - various types of staging system have been built by different MODS.  We’ve tried to standardise and formalise one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Part relations shown cannot be recorded (I’ll show you why later).  So, from the ontology, our curator can’t tell what GMC 7-1b is part of. And, in grouping gene expression, we can’t deduce that a gene expressed in GMC 7-1b is expressed in part of the VNC primordiu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1135080" y="689040"/>
            <a:ext cx="458928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 PL ShanHeiSun Uni"/>
              </a:rPr>
              <a:t>1. We treat developmental t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 PL ShanHeiSun Uni"/>
              </a:rPr>
              <a:t>Emphasise - This applies to development of a whole animal, of some part of that animal or to processes that are repeated many times during development – e.g.- ommatidial development, or in an adult – e.g.- oogene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5C08-192D-4AB0-AA53-14DE09BE1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B558-A18A-485B-B585-FC13C4C46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ADE2-8CF1-44C0-B211-74935B959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A109-EA33-4EAD-A76C-B4975A6B8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AE3E-876C-4478-96AC-376A9D6EE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D172-F857-4F19-8896-4E27BBB81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ACCD-674F-4A94-BE25-04EB41D42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0B14-3927-4257-8B36-1ED25E125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E775-B312-40E9-9046-92B3290C7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DECD-1DE0-47E3-9464-C391B277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16E7-DE24-4DED-9B05-A794A714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6C7B-3C3D-456C-9CED-48FB6B2B2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DD6708-23E1-4959-98C4-B5064DB267E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68360" y="549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Representing Develop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4360" y="2997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vid Osumi-Sutherland –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y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bian Neuhaus -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tional Institute of Standards and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236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ystem for ordering ev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2920" y="1763640"/>
            <a:ext cx="9072360" cy="571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ents are treated as instants – they  have no time dimen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are only 2 types of timing relationships between event instances (e, f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&lt;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imultaneou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≈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th can be derived f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efore_or_simultaneous_ with 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≤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finition: e&lt;f := e≤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NOT 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≤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finition: e≈f := e≤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≤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344680" y="4032360"/>
            <a:ext cx="3968640" cy="357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DejaVu San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57240" y="3476520"/>
            <a:ext cx="3968640" cy="357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DejaVu San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344680" y="4151160"/>
            <a:ext cx="1800" cy="55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924440" y="3486240"/>
            <a:ext cx="144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558800" y="4711680"/>
            <a:ext cx="150192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735120" indent="-277920">
              <a:lnSpc>
                <a:spcPct val="88000"/>
              </a:lnSpc>
              <a:spcBef>
                <a:spcPts val="601"/>
              </a:spcBef>
              <a:tabLst>
                <a:tab algn="l" pos="0"/>
                <a:tab algn="l" pos="7351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ejaVu Sans"/>
                <a:ea typeface="Arial"/>
              </a:rPr>
              <a:t>α(x)</a:t>
            </a:r>
            <a:r>
              <a:rPr b="0" lang="en-GB" sz="2400" spc="-1" strike="noStrike">
                <a:solidFill>
                  <a:srgbClr val="000000"/>
                </a:solidFill>
                <a:latin typeface="DejaVu Sans"/>
                <a:ea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527800" y="4651200"/>
            <a:ext cx="157140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735120" indent="-277920">
              <a:lnSpc>
                <a:spcPct val="88000"/>
              </a:lnSpc>
              <a:spcBef>
                <a:spcPts val="601"/>
              </a:spcBef>
              <a:tabLst>
                <a:tab algn="l" pos="0"/>
                <a:tab algn="l" pos="7351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ejaVu Sans"/>
                <a:ea typeface="Arial"/>
              </a:rPr>
              <a:t>ω(x)</a:t>
            </a:r>
            <a:r>
              <a:rPr b="0" lang="en-GB" sz="2400" spc="-1" strike="noStrike">
                <a:solidFill>
                  <a:srgbClr val="000000"/>
                </a:solidFill>
                <a:latin typeface="DejaVu Sans"/>
                <a:ea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13320" y="4295880"/>
            <a:ext cx="1800" cy="35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68400" y="3484440"/>
            <a:ext cx="1440" cy="10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546200" y="2000160"/>
            <a:ext cx="12304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81400" y="4630680"/>
            <a:ext cx="14637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735120" indent="-277920">
              <a:lnSpc>
                <a:spcPct val="88000"/>
              </a:lnSpc>
              <a:spcBef>
                <a:spcPts val="601"/>
              </a:spcBef>
              <a:tabLst>
                <a:tab algn="l" pos="0"/>
                <a:tab algn="l" pos="7351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ejaVu Sans"/>
                <a:ea typeface="Arial"/>
              </a:rPr>
              <a:t>ω(p)</a:t>
            </a:r>
            <a:r>
              <a:rPr b="0" lang="en-GB" sz="2400" spc="-1" strike="noStrike">
                <a:solidFill>
                  <a:srgbClr val="000000"/>
                </a:solidFill>
                <a:latin typeface="DejaVu Sans"/>
                <a:ea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172040" y="5002200"/>
            <a:ext cx="14256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735120" indent="-277920">
              <a:lnSpc>
                <a:spcPct val="88000"/>
              </a:lnSpc>
              <a:spcBef>
                <a:spcPts val="601"/>
              </a:spcBef>
              <a:tabLst>
                <a:tab algn="l" pos="0"/>
                <a:tab algn="l" pos="7351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ejaVu Sans"/>
                <a:ea typeface="Arial"/>
              </a:rPr>
              <a:t>α(q)</a:t>
            </a:r>
            <a:r>
              <a:rPr b="0" lang="en-GB" sz="2400" spc="-1" strike="noStrike">
                <a:solidFill>
                  <a:srgbClr val="000000"/>
                </a:solidFill>
                <a:latin typeface="DejaVu Sans"/>
                <a:ea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7240" y="441360"/>
            <a:ext cx="999972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iming relations between instances of occurrents, continua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038560" y="1946160"/>
            <a:ext cx="504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v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α(p)  - beginning of 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ω(p) - end of an 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xiom: α(o)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ω(o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3680" y="3303720"/>
            <a:ext cx="10573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38280" y="2903400"/>
            <a:ext cx="7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68000" y="5748480"/>
            <a:ext cx="907236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8760" indent="-3240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starts_during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p := (α(p)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α(x)) AND (α(x)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ω(p))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932360" y="3476520"/>
            <a:ext cx="2513160" cy="357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DejaVu Sans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2360" y="4552920"/>
            <a:ext cx="14256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735120" indent="-277920">
              <a:lnSpc>
                <a:spcPct val="88000"/>
              </a:lnSpc>
              <a:spcBef>
                <a:spcPts val="601"/>
              </a:spcBef>
              <a:tabLst>
                <a:tab algn="l" pos="0"/>
                <a:tab algn="l" pos="7351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ejaVu Sans"/>
                <a:ea typeface="Arial"/>
              </a:rPr>
              <a:t>α(p)</a:t>
            </a:r>
            <a:r>
              <a:rPr b="0" lang="en-GB" sz="2400" spc="-1" strike="noStrike">
                <a:solidFill>
                  <a:srgbClr val="000000"/>
                </a:solidFill>
                <a:latin typeface="DejaVu Sans"/>
                <a:ea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634080" y="4707000"/>
            <a:ext cx="15717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735120" indent="-277920">
              <a:lnSpc>
                <a:spcPct val="88000"/>
              </a:lnSpc>
              <a:spcBef>
                <a:spcPts val="601"/>
              </a:spcBef>
              <a:tabLst>
                <a:tab algn="l" pos="0"/>
                <a:tab algn="l" pos="7351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ejaVu Sans"/>
                <a:ea typeface="Arial"/>
              </a:rPr>
              <a:t>ω(q)</a:t>
            </a:r>
            <a:r>
              <a:rPr b="0" lang="en-GB" sz="2400" spc="-1" strike="noStrike">
                <a:solidFill>
                  <a:srgbClr val="000000"/>
                </a:solidFill>
                <a:latin typeface="DejaVu Sans"/>
                <a:ea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431120" y="3498840"/>
            <a:ext cx="144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ference Pro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invariability of the order of two events is always relative to some reference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 before Y during ooge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ny instances of oogenesis occur in parallel in an adult female, but with no shared starting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, relative to the life of an adult female, X and Y have no invariant or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9280" y="36036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rosophila Oogen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260360" y="1979640"/>
            <a:ext cx="3959280" cy="50403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6877080" y="723960"/>
            <a:ext cx="1927080" cy="65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rnary relation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ference processes could be recorded using ternary relations (A before B during C...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t these are not supported in OWL or OBO, or by their respective editing tools – Protege and OBO-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31640" y="93240"/>
            <a:ext cx="907128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ow to avoid using ternary re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000" y="1440000"/>
            <a:ext cx="9070920" cy="59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each type for which timing is to be captured – record a reference occurr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reference_occurr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B :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Continuant or Occurrent types have only one reference pro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occurrents occur only once during their referenc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Aa is an occurrant, then  a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art_of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(ref_occurrant(a)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Aa is a continuant, then a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articipates_i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(ref_occurrant(a)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539280" y="430200"/>
            <a:ext cx="9070920" cy="67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ferenceoccurrent(x, y) -&gt;  (Universal(x) &amp; is_a(y,Occurrent)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44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ferenceoccurrent(x, y) &amp;  referenceoccurrent(x, z) -&gt;  (y =z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44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44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ferenceoccurrent(x, y) &amp; is_a(x,Occurrent) 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44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 x1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I(x, x1) 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44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I(y, refoccurrent(x1)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44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amp; ilo_part(x1,refoccurrent(x1)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44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amp; all y1 (I(y,y1) &amp; ilo_part(x1, y1) -&gt; (y1 = refoccurrent(x1))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44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44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ferenceoccurrent(x, y) &amp; is_a(x,Continuant) 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44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 x1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I(x, x1) 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44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I(y, refoccurrent(x1)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44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amp; participates_in(x1,refoccurrent(x1)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44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amp; all y1 (I(y,y1) &amp; participates_in(x1, y1) -&gt; (y1 = refoccurrent(x1))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44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2920" y="30744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vision of reference process into a reference sc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565440" y="228132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754520" y="228132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946840" y="228132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137360" y="228132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190520" y="228132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171440" y="2055960"/>
            <a:ext cx="741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974600" y="187164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378160" y="2281320"/>
            <a:ext cx="119196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190520" y="2894040"/>
            <a:ext cx="933480" cy="476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ellular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iz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129440" y="2843280"/>
            <a:ext cx="2733840" cy="476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tomodeal invagin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376360" y="2908440"/>
            <a:ext cx="2733840" cy="476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astr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3280" y="3564000"/>
            <a:ext cx="3995640" cy="39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rm band ext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318520" y="3435480"/>
            <a:ext cx="1546200" cy="476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TP invagin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87280" y="2317680"/>
            <a:ext cx="776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520" y="2843280"/>
            <a:ext cx="10047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Uniq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9640" y="4319640"/>
            <a:ext cx="7920000" cy="22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gastrulation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reference_occurrent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embryogene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mbryonic stage 5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reference_occurrent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embryogene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gastrulation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begins_at_end_o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 embryonic stage 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omodeal invagination begins_at_end_of embryonic stage 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414440" y="2352600"/>
            <a:ext cx="6555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4400" spc="-1" strike="noStrike">
                <a:solidFill>
                  <a:srgbClr val="000000"/>
                </a:solidFill>
                <a:latin typeface="Arial"/>
              </a:rPr>
              <a:t>begins_at_end_of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– formal de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 begins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_at_end_of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↔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O is_a Occur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amp;  P</a:t>
            </a:r>
            <a:r>
              <a:rPr b="1" lang="en-GB" sz="3200" spc="-1" strike="noStrike" baseline="-42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s_a Occur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amp; ∀o (O(o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  ∃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 (P(p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amp; refoccurrent(o) = refoccurrent(p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amp;(omega(p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≈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lpha(o))))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ist of type level relations -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ique*</a:t>
            </a:r>
            <a:r>
              <a:rPr b="0" lang="en-GB" sz="3200" spc="-1" strike="noStrike" baseline="33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Occurrent to unique Occur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begins_at_end_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begins_du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ends_du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begins_bef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ends_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simultaneous_with 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happens_during 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 baseline="33000">
                <a:solidFill>
                  <a:srgbClr val="000000"/>
                </a:solidFill>
                <a:latin typeface="Arial"/>
              </a:rPr>
              <a:t>*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1 Unique here means, happens only once during referenc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*2 non-essential but reduces number of relationship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287720" y="83808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210360" y="6940440"/>
            <a:ext cx="367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mpos-Ortega and Hartenstein, 199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340000" y="985680"/>
            <a:ext cx="5219640" cy="56739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79280" y="3419640"/>
            <a:ext cx="344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NE = Ventral neurectode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656160" y="4676760"/>
            <a:ext cx="119196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844880" y="467676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037200" y="467676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226280" y="467676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418600" y="4676760"/>
            <a:ext cx="119196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55480" y="1531800"/>
            <a:ext cx="912816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MC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first_exists_dur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embryonic stage 8 (ES8)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som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nstance of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MC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rts to exist during*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nstances of 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ES8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nstances of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MC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start to exist during* </a:t>
            </a:r>
            <a:r>
              <a:rPr b="1" lang="en-GB" sz="2000" spc="-1" strike="noStrike">
                <a:solidFill>
                  <a:srgbClr val="aecf00"/>
                </a:solidFill>
                <a:latin typeface="Arial"/>
              </a:rPr>
              <a:t>ES8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R start to exist after the end of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som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nstance of 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ES8)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*during is shorthand for 'the start of X is after the start of Y and before the end of Y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714840" y="5343480"/>
            <a:ext cx="1085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859280" y="5329080"/>
            <a:ext cx="4700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083120" y="5924520"/>
            <a:ext cx="1349280" cy="71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M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890960" y="5366880"/>
            <a:ext cx="16653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84080" y="5545080"/>
            <a:ext cx="2262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G – graph-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mitting tim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0"/>
            <a:ext cx="999972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iming relations between ty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049560" y="4545000"/>
            <a:ext cx="10573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130560" y="4149720"/>
            <a:ext cx="7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96560" y="-360"/>
            <a:ext cx="907236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s_a inheritance of ti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656160" y="4327560"/>
            <a:ext cx="119196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844880" y="432756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037200" y="432756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226280" y="432756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418600" y="4327560"/>
            <a:ext cx="119196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844880" y="5041800"/>
            <a:ext cx="4764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656160" y="5041800"/>
            <a:ext cx="11919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925880" y="5357880"/>
            <a:ext cx="10303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986440" y="5357880"/>
            <a:ext cx="2432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469280" y="5911920"/>
            <a:ext cx="1349280" cy="71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M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054320" y="5911920"/>
            <a:ext cx="1349640" cy="71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MC 7-1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484960" y="6227640"/>
            <a:ext cx="19065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4848120" y="5352840"/>
            <a:ext cx="16653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48720" y="585324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s_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8023320" y="5033880"/>
            <a:ext cx="79200" cy="88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60360" y="1501920"/>
            <a:ext cx="9128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anglion mother cell (GMC)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first_exists_dur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embryonic stage 8 (ES8)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anglion mother cell GMC 7-1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ll_begin_to_exist_dur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embryonic stage 9 (ES9)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ll_cease_to_exist_during 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embryonic stage 12 (ES12)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s_a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anglion mother cell (GMC)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050840" y="5460840"/>
            <a:ext cx="2262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G – graph-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mitting tim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412120" y="5357880"/>
            <a:ext cx="10303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Arial"/>
              </a:rPr>
              <a:t>all_begin_to_exist_during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– formal defi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ll_begin_to_exist_during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pple Chancery"/>
              </a:rPr>
              <a:t>↔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C is_a Continua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en-GB" sz="2400" spc="-1" strike="noStrike">
                <a:solidFill>
                  <a:srgbClr val="000000"/>
                </a:solidFill>
                <a:latin typeface="Apple Chancery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 is_a  Occurr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en-GB" sz="2400" spc="-1" strike="noStrike">
                <a:solidFill>
                  <a:srgbClr val="000000"/>
                </a:solidFill>
                <a:latin typeface="Apple Chancery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∀ c ∀ t  ( C (c,t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 ∃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(o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amp;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occurrent(c) = refoccurrent(o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amp;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alpha(o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≤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lpha(c)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amp;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alpha(c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≤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mega(o)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)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94920" y="9324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ist of type level timing relations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88720" y="1292040"/>
            <a:ext cx="9070920" cy="644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ique*</a:t>
            </a:r>
            <a:r>
              <a:rPr b="0" lang="en-GB" sz="3200" spc="-1" strike="noStrike" baseline="33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occurrent to non-unique continua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first_exists_du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last_exists_du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all_begin_to_exist_during *</a:t>
            </a:r>
            <a:r>
              <a:rPr b="0" i="1" lang="en-GB" sz="2800" spc="-1" strike="noStrike" baseline="33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all_cease_to_exist_during *</a:t>
            </a:r>
            <a:r>
              <a:rPr b="0" i="1" lang="en-GB" sz="2800" spc="-1" strike="noStrike" baseline="33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begins_to_exist_at_end_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begins_to_exist_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ceases_to_exist_bef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exists_only_during *</a:t>
            </a:r>
            <a:r>
              <a:rPr b="0" i="1" lang="en-GB" sz="2800" spc="-1" strike="noStrike" baseline="33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 baseline="33000">
                <a:solidFill>
                  <a:srgbClr val="000000"/>
                </a:solidFill>
                <a:latin typeface="Arial"/>
              </a:rPr>
              <a:t>*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1 Unique here means, happens only once during referenc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*2 non-essential but reduced number of relationship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487680" y="306720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676760" y="306720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9080" y="3067200"/>
            <a:ext cx="119196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059600" y="306720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250120" y="306720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676760" y="3781440"/>
            <a:ext cx="4764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487680" y="3781440"/>
            <a:ext cx="11923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757760" y="4098960"/>
            <a:ext cx="10303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791320" y="4098960"/>
            <a:ext cx="2474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300800" y="4651200"/>
            <a:ext cx="1349640" cy="71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M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634000" y="6159600"/>
            <a:ext cx="1349280" cy="71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NC pr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886200" y="4651200"/>
            <a:ext cx="1349280" cy="71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MC 7-1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 flipV="1">
            <a:off x="4915080" y="5519520"/>
            <a:ext cx="644400" cy="56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5310360" y="4967280"/>
            <a:ext cx="19159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4681440" y="4093920"/>
            <a:ext cx="16653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880240" y="459432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s_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680000" y="3940200"/>
            <a:ext cx="4763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489480" y="3940200"/>
            <a:ext cx="119196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6667560" y="5358960"/>
            <a:ext cx="554040" cy="723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7854840" y="3774960"/>
            <a:ext cx="79560" cy="88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6189840" y="3933720"/>
            <a:ext cx="79344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76120" y="2006640"/>
            <a:ext cx="91281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331120" y="4098960"/>
            <a:ext cx="10303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454640" y="571968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r>
              <a:rPr b="0" lang="en-GB" sz="2000" spc="-1" strike="noStrike">
                <a:solidFill>
                  <a:srgbClr val="cc00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099560" y="560880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r>
              <a:rPr b="0" lang="en-GB" sz="2000" spc="-1" strike="noStrike">
                <a:solidFill>
                  <a:srgbClr val="cc00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87520" y="428760"/>
            <a:ext cx="907236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e can’t record</a:t>
            </a:r>
            <a:r>
              <a:rPr b="0" i="1" lang="en-GB" sz="3600" spc="-1" strike="noStrike">
                <a:solidFill>
                  <a:srgbClr val="000000"/>
                </a:solidFill>
                <a:latin typeface="Arial"/>
              </a:rPr>
              <a:t> has_part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008000" y="2130480"/>
            <a:ext cx="804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has_par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X: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som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art_o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Y, no matter what st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04800" y="4834080"/>
            <a:ext cx="2262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G – graph-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mitting tim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3781440" y="2857680"/>
            <a:ext cx="119232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970520" y="2857680"/>
            <a:ext cx="119232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162840" y="2857680"/>
            <a:ext cx="119196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353360" y="2857680"/>
            <a:ext cx="119232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545680" y="2857680"/>
            <a:ext cx="119196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416480" y="6118200"/>
            <a:ext cx="1349280" cy="71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NC pr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179960" y="4441680"/>
            <a:ext cx="1349280" cy="71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2 neur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847760" y="5313240"/>
            <a:ext cx="19080" cy="5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75360" y="6566040"/>
            <a:ext cx="8953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161120" y="6188040"/>
            <a:ext cx="1347840" cy="71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N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308560" y="5281560"/>
            <a:ext cx="2487600" cy="798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402160" y="693900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evelops_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835440" y="2631960"/>
            <a:ext cx="7412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638600" y="244800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2601720" y="3557520"/>
            <a:ext cx="7124760" cy="1800"/>
            <a:chOff x="2601720" y="3557520"/>
            <a:chExt cx="7124760" cy="1800"/>
          </a:xfrm>
        </p:grpSpPr>
        <p:sp>
          <p:nvSpPr>
            <p:cNvPr id="294" name=""/>
            <p:cNvSpPr/>
            <p:nvPr/>
          </p:nvSpPr>
          <p:spPr>
            <a:xfrm flipH="1">
              <a:off x="2601720" y="3557520"/>
              <a:ext cx="57020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8292960" y="3557520"/>
              <a:ext cx="1433520" cy="1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8543880" y="3898800"/>
            <a:ext cx="11923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797280" y="3745080"/>
            <a:ext cx="5924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635200" y="3745080"/>
            <a:ext cx="11923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5081760" y="3746160"/>
            <a:ext cx="116172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8259840" y="3900600"/>
            <a:ext cx="839880" cy="224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577960" y="285588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418000" y="3578040"/>
            <a:ext cx="1679760" cy="257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122720" y="5398920"/>
            <a:ext cx="73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r>
              <a:rPr b="0" lang="en-GB" sz="2000" spc="-1" strike="noStrike">
                <a:solidFill>
                  <a:srgbClr val="cc00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586560" y="5315040"/>
            <a:ext cx="73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r>
              <a:rPr b="0" lang="en-GB" sz="2000" spc="-1" strike="noStrike">
                <a:solidFill>
                  <a:srgbClr val="cc00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0880" y="0"/>
            <a:ext cx="907272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e can’t record </a:t>
            </a:r>
            <a:r>
              <a:rPr b="0" i="1" lang="en-GB" sz="3600" spc="-1" strike="noStrike">
                <a:solidFill>
                  <a:srgbClr val="000000"/>
                </a:solidFill>
                <a:latin typeface="Arial"/>
              </a:rPr>
              <a:t>part_of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50720" y="1177920"/>
            <a:ext cx="849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L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part_o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X: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U2 neur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art_of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som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VNC pri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for all stages that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U2 neur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ex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2920" y="0"/>
            <a:ext cx="9072360" cy="27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olution to the part problem:</a:t>
            </a:r>
            <a:br>
              <a:rPr sz="4000"/>
            </a:br>
            <a:r>
              <a:rPr b="0" i="1" lang="en-GB" sz="4000" spc="-1" strike="noStrike">
                <a:solidFill>
                  <a:srgbClr val="000000"/>
                </a:solidFill>
                <a:latin typeface="Arial"/>
              </a:rPr>
              <a:t>time_restricted_integral_part_of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4000" spc="-1" strike="noStrike">
                <a:solidFill>
                  <a:srgbClr val="000000"/>
                </a:solidFill>
                <a:latin typeface="Arial"/>
              </a:rPr>
              <a:t>tri_part_of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15880" y="25700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spcBef>
                <a:spcPts val="799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601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any time point where some instance of X and 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601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stance of Y ex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601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601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stances of X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art_o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som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stance of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601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601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Som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stance of X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art_o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stances of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Arial"/>
              </a:rPr>
              <a:t>time_restricted_integral_part_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31640" y="1547640"/>
            <a:ext cx="9071280" cy="572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C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r_part_of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↔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C is_a Continua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 is_a  Continu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∀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∀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 (C (c, 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→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∃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∃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₁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( d, t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₁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c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art_of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t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₁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)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∀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t₂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(c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exists_a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₂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d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exists_a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₂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→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c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art_of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₂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)))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 C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r_has_par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↔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C is_a Continuan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 is_a  Continua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 ∀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∀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 (C (c, 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→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∃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∃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GB" sz="1800" spc="-1" strike="noStrike">
                <a:solidFill>
                  <a:srgbClr val="000000"/>
                </a:solidFill>
                <a:latin typeface="Apple Chancery"/>
              </a:rPr>
              <a:t>₁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( d, t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₁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d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art_of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c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₁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)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∀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t₂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(c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exists_a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₂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d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exists_a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₂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→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d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art_of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c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₂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)))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139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C tr_integral_part_of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↔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(C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r_part_of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 &amp; D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r_has_part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 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4005360" y="3543480"/>
            <a:ext cx="119196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195880" y="3543480"/>
            <a:ext cx="119232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386400" y="3543480"/>
            <a:ext cx="119232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577280" y="3543480"/>
            <a:ext cx="119196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8769240" y="3543480"/>
            <a:ext cx="119232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195880" y="4257720"/>
            <a:ext cx="4764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005360" y="4257720"/>
            <a:ext cx="119196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275440" y="4573440"/>
            <a:ext cx="10299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6308640" y="4554000"/>
            <a:ext cx="2489400" cy="2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818480" y="5127480"/>
            <a:ext cx="1349280" cy="71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M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153120" y="6635880"/>
            <a:ext cx="1347840" cy="71568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NC pr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03880" y="5127480"/>
            <a:ext cx="1349280" cy="71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MC 7-1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494320" y="5942160"/>
            <a:ext cx="635040" cy="55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834160" y="5443560"/>
            <a:ext cx="19065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5199120" y="4568400"/>
            <a:ext cx="16653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397920" y="506880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s_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286160" y="6129360"/>
            <a:ext cx="149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333399"/>
                </a:solidFill>
                <a:latin typeface="Arial"/>
              </a:rPr>
              <a:t>tdi_part_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34880" y="5923080"/>
            <a:ext cx="2262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G – graph-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mitting tim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197320" y="4416480"/>
            <a:ext cx="4764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006800" y="4416480"/>
            <a:ext cx="11923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7181640" y="5842080"/>
            <a:ext cx="563400" cy="71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583400" y="6000840"/>
            <a:ext cx="149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333399"/>
                </a:solidFill>
                <a:latin typeface="Arial"/>
              </a:rPr>
              <a:t>tdi_part_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704960" y="5127480"/>
            <a:ext cx="1349280" cy="716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B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3129120" y="5448240"/>
            <a:ext cx="12016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897280" y="473220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evelops_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389640" y="4429080"/>
            <a:ext cx="2417760" cy="1461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194440" y="4255920"/>
            <a:ext cx="4881600" cy="1587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8373960" y="4251240"/>
            <a:ext cx="79560" cy="88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6707160" y="4410000"/>
            <a:ext cx="79380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199120" y="4414680"/>
            <a:ext cx="1190520" cy="158760"/>
          </a:xfrm>
          <a:prstGeom prst="rect">
            <a:avLst/>
          </a:prstGeom>
          <a:solidFill>
            <a:srgbClr val="333399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76120" y="520560"/>
            <a:ext cx="91281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anglion mother cell (GMC)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first_exists_dur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embryonic stage 8 (ES8)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333399"/>
                </a:solidFill>
                <a:latin typeface="Arial"/>
              </a:rPr>
              <a:t>tdi_part_of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ventral nerve cord primordium (VNC prim)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anglion mother cell GMC 7-1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evelops_fro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neuroblast NB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ll_begin_to_exist_dur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embryonic stage 9 (ES9)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ll_cease_to_exist_during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 embryonic stage 9 (ES9)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333399"/>
                </a:solidFill>
                <a:latin typeface="Arial"/>
              </a:rPr>
              <a:t>tdi_part_of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ventral nerve cord primordium (VNC prim)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850240" y="4573440"/>
            <a:ext cx="10303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771040" y="4400640"/>
            <a:ext cx="1189080" cy="158760"/>
          </a:xfrm>
          <a:prstGeom prst="rect">
            <a:avLst/>
          </a:prstGeom>
          <a:solidFill>
            <a:srgbClr val="333399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3781440" y="2857680"/>
            <a:ext cx="119232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70520" y="2857680"/>
            <a:ext cx="119232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162840" y="2857680"/>
            <a:ext cx="119196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353360" y="2857680"/>
            <a:ext cx="119232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8545680" y="2857680"/>
            <a:ext cx="119196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416480" y="6118200"/>
            <a:ext cx="1349280" cy="71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NC pr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179960" y="4441680"/>
            <a:ext cx="1349280" cy="71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2 neur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4847760" y="5313240"/>
            <a:ext cx="19080" cy="5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03280" y="244440"/>
            <a:ext cx="9128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U2 neur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evelops_fro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anglion mother cell GMC 7-1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s_a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motor neur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333399"/>
                </a:solidFill>
                <a:latin typeface="Arial"/>
              </a:rPr>
              <a:t>tdi_part_of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ventral nerve cord primor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333399"/>
                </a:solidFill>
                <a:latin typeface="Arial"/>
              </a:rPr>
              <a:t>tdi_part_of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ventral nerve c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ll_begin_to_exist_during 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embryonic stage 13 (ES13)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481040" y="4441680"/>
            <a:ext cx="1349640" cy="716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MC 7-1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2903040" y="4762440"/>
            <a:ext cx="12020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674800" y="404496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evelops_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075360" y="6566040"/>
            <a:ext cx="8953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161120" y="6188040"/>
            <a:ext cx="1347840" cy="71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N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308560" y="5281560"/>
            <a:ext cx="2487600" cy="798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858000" y="538488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333399"/>
                </a:solidFill>
                <a:latin typeface="Arial"/>
              </a:rPr>
              <a:t>tdi_part_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436920" y="5356080"/>
            <a:ext cx="139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333399"/>
                </a:solidFill>
                <a:latin typeface="Arial"/>
              </a:rPr>
              <a:t>tdi_part_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402160" y="693900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evelops_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835440" y="2631960"/>
            <a:ext cx="7412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638600" y="244800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2601720" y="3557520"/>
            <a:ext cx="7124760" cy="1800"/>
            <a:chOff x="2601720" y="3557520"/>
            <a:chExt cx="7124760" cy="1800"/>
          </a:xfrm>
        </p:grpSpPr>
        <p:sp>
          <p:nvSpPr>
            <p:cNvPr id="365" name=""/>
            <p:cNvSpPr/>
            <p:nvPr/>
          </p:nvSpPr>
          <p:spPr>
            <a:xfrm flipH="1">
              <a:off x="2601720" y="3557520"/>
              <a:ext cx="57020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8292960" y="3557520"/>
              <a:ext cx="1433520" cy="1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8543880" y="3898800"/>
            <a:ext cx="11923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797280" y="3745080"/>
            <a:ext cx="5924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635200" y="3745080"/>
            <a:ext cx="11923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5081760" y="3746160"/>
            <a:ext cx="116172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8259840" y="3900600"/>
            <a:ext cx="839880" cy="224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784680" y="3556080"/>
            <a:ext cx="4782960" cy="1728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577960" y="285588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5418000" y="3578040"/>
            <a:ext cx="1679760" cy="257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8566200" y="3730680"/>
            <a:ext cx="1189080" cy="158760"/>
          </a:xfrm>
          <a:prstGeom prst="rect">
            <a:avLst/>
          </a:prstGeom>
          <a:solidFill>
            <a:srgbClr val="333399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510000" y="2144880"/>
            <a:ext cx="3409920" cy="40798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209520"/>
            <a:ext cx="90723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Neuroblast delamination from the ventral neurectoder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6440400" y="4746240"/>
            <a:ext cx="681120" cy="25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134480" y="4551480"/>
            <a:ext cx="141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urobl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6313320" y="3951360"/>
            <a:ext cx="681120" cy="25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986520" y="3703680"/>
            <a:ext cx="245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anglion mother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24520" y="2959200"/>
            <a:ext cx="4334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728960" y="3440160"/>
            <a:ext cx="826920" cy="76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59360" y="4862520"/>
            <a:ext cx="4809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6570360" y="5614920"/>
            <a:ext cx="6174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277400" y="5384880"/>
            <a:ext cx="1753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entr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urectode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70320" y="1943280"/>
            <a:ext cx="27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38000" y="2476440"/>
            <a:ext cx="1796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entr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urectode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VNE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6080" y="6632640"/>
            <a:ext cx="486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gure from Doe, 1992, Development:1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459080" y="61272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780000" y="3780000"/>
            <a:ext cx="2857320" cy="32889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121280" y="5921280"/>
            <a:ext cx="1003320" cy="598680"/>
          </a:xfrm>
          <a:custGeom>
            <a:avLst/>
            <a:gdLst/>
            <a:ahLst/>
            <a:rect l="l" t="t" r="r" b="b"/>
            <a:pathLst>
              <a:path w="573" h="342">
                <a:moveTo>
                  <a:pt x="0" y="0"/>
                </a:moveTo>
                <a:lnTo>
                  <a:pt x="141" y="42"/>
                </a:lnTo>
                <a:lnTo>
                  <a:pt x="339" y="144"/>
                </a:lnTo>
                <a:lnTo>
                  <a:pt x="393" y="141"/>
                </a:lnTo>
                <a:lnTo>
                  <a:pt x="444" y="168"/>
                </a:lnTo>
                <a:lnTo>
                  <a:pt x="573" y="213"/>
                </a:lnTo>
                <a:lnTo>
                  <a:pt x="501" y="342"/>
                </a:lnTo>
                <a:lnTo>
                  <a:pt x="318" y="282"/>
                </a:lnTo>
                <a:lnTo>
                  <a:pt x="141" y="189"/>
                </a:lnTo>
                <a:lnTo>
                  <a:pt x="69" y="159"/>
                </a:lnTo>
                <a:lnTo>
                  <a:pt x="30" y="78"/>
                </a:lnTo>
                <a:lnTo>
                  <a:pt x="0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854440" y="5217840"/>
            <a:ext cx="1280880" cy="82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19520" y="4494240"/>
            <a:ext cx="202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entral ner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rd primor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59640" y="5843520"/>
            <a:ext cx="181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(ganglion mother cell)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13440" y="6894360"/>
            <a:ext cx="367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mpos-Ortega and Hartenstein, 199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257560" y="539640"/>
            <a:ext cx="5481360" cy="27003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 flipV="1">
            <a:off x="2757600" y="2892240"/>
            <a:ext cx="1665000" cy="170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003680" y="72540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959280" y="3830760"/>
            <a:ext cx="3174840" cy="3225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67320" y="6037200"/>
            <a:ext cx="850680" cy="566640"/>
          </a:xfrm>
          <a:custGeom>
            <a:avLst/>
            <a:gdLst/>
            <a:ahLst/>
            <a:rect l="l" t="t" r="r" b="b"/>
            <a:pathLst>
              <a:path w="486" h="324">
                <a:moveTo>
                  <a:pt x="0" y="0"/>
                </a:moveTo>
                <a:cubicBezTo>
                  <a:pt x="2" y="42"/>
                  <a:pt x="6" y="168"/>
                  <a:pt x="6" y="126"/>
                </a:cubicBezTo>
                <a:lnTo>
                  <a:pt x="210" y="270"/>
                </a:lnTo>
                <a:lnTo>
                  <a:pt x="438" y="324"/>
                </a:lnTo>
                <a:lnTo>
                  <a:pt x="486" y="144"/>
                </a:lnTo>
                <a:lnTo>
                  <a:pt x="384" y="96"/>
                </a:lnTo>
                <a:lnTo>
                  <a:pt x="246" y="90"/>
                </a:lnTo>
                <a:lnTo>
                  <a:pt x="126" y="60"/>
                </a:lnTo>
                <a:lnTo>
                  <a:pt x="0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506760" y="6252840"/>
            <a:ext cx="1060560" cy="8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41760" y="6103800"/>
            <a:ext cx="202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entral ner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rd primor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27840" y="7186680"/>
            <a:ext cx="367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mpos-Ortega and Hartenstein, 199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930320" y="590400"/>
            <a:ext cx="635004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885960" y="17208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ate stage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8720" y="165888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age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2200" y="4479840"/>
            <a:ext cx="7783560" cy="46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40880" y="4464000"/>
            <a:ext cx="17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arly ES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62960" y="1689120"/>
            <a:ext cx="201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ate stage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2720" y="341280"/>
            <a:ext cx="745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Neuroblast delamination from VNE to VNC primordi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4120" y="5203800"/>
            <a:ext cx="8826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circle is a specific neuroblast (NB)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lours denote gene 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61800" y="2260440"/>
            <a:ext cx="2705400" cy="26114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489480" y="2224080"/>
            <a:ext cx="2512800" cy="26240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6512040" y="2205000"/>
            <a:ext cx="2390760" cy="26956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576520" y="3332160"/>
            <a:ext cx="7412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851440" y="3303720"/>
            <a:ext cx="741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6080" y="6632640"/>
            <a:ext cx="486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gure from Doe, 1992, Development:1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236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velopment of U2 neur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592360"/>
            <a:ext cx="1349280" cy="716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2 neur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72000" y="2620800"/>
            <a:ext cx="1349640" cy="716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MC 7-1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6852960" y="2913120"/>
            <a:ext cx="711000" cy="1440"/>
          </a:xfrm>
          <a:prstGeom prst="line">
            <a:avLst/>
          </a:prstGeom>
          <a:ln w="255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4782960" y="2940120"/>
            <a:ext cx="611280" cy="1440"/>
          </a:xfrm>
          <a:prstGeom prst="line">
            <a:avLst/>
          </a:prstGeom>
          <a:ln w="255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284720" y="4781160"/>
            <a:ext cx="1440" cy="65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788160" y="1608120"/>
            <a:ext cx="193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uring stage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73480" y="2606760"/>
            <a:ext cx="1349280" cy="716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B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20480" y="2968560"/>
            <a:ext cx="919080" cy="1800"/>
          </a:xfrm>
          <a:prstGeom prst="line">
            <a:avLst/>
          </a:prstGeom>
          <a:ln w="255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8240" y="2649600"/>
            <a:ext cx="1349640" cy="716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81760" y="2016000"/>
            <a:ext cx="1440" cy="64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27440" y="2057400"/>
            <a:ext cx="1440" cy="64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44360" y="1566720"/>
            <a:ext cx="179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uring stage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282560" y="1579680"/>
            <a:ext cx="179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uring stage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51080" y="4398840"/>
            <a:ext cx="1349280" cy="716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NC pr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856040" y="4413240"/>
            <a:ext cx="1349640" cy="716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N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3943080" y="4732200"/>
            <a:ext cx="610920" cy="1800"/>
          </a:xfrm>
          <a:prstGeom prst="line">
            <a:avLst/>
          </a:prstGeom>
          <a:ln w="255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27560" y="5402160"/>
            <a:ext cx="193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uring stage 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364520" y="2044800"/>
            <a:ext cx="144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8521560" y="5824440"/>
            <a:ext cx="611280" cy="1800"/>
          </a:xfrm>
          <a:prstGeom prst="line">
            <a:avLst/>
          </a:prstGeom>
          <a:ln w="255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519960" y="5599080"/>
            <a:ext cx="192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evelops_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103560" y="3471840"/>
            <a:ext cx="541440" cy="75564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3355560" y="3541680"/>
            <a:ext cx="2514600" cy="70020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3649680" y="3443400"/>
            <a:ext cx="4643280" cy="82548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6084360" y="3486240"/>
            <a:ext cx="2487960" cy="68580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8478720" y="5514840"/>
            <a:ext cx="611280" cy="180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619760" y="52894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11280" y="6521400"/>
            <a:ext cx="660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age specific part relations such as these cannot 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corded using standard OBO re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6560" y="-360"/>
            <a:ext cx="907236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imitations of current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781440" y="2857680"/>
            <a:ext cx="119232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970520" y="2857680"/>
            <a:ext cx="119232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62840" y="2857680"/>
            <a:ext cx="119196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353360" y="2857680"/>
            <a:ext cx="119232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545680" y="2857680"/>
            <a:ext cx="119196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594560" y="4441680"/>
            <a:ext cx="1349280" cy="71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M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27760" y="5950080"/>
            <a:ext cx="1349280" cy="71568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NC pr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179960" y="4441680"/>
            <a:ext cx="1349280" cy="71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MC 7-1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213520" y="5315040"/>
            <a:ext cx="634680" cy="55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610240" y="4757760"/>
            <a:ext cx="19065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174000" y="438300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_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00520" y="547200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6957720" y="5154480"/>
            <a:ext cx="563400" cy="7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308720" y="53989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03280" y="1406520"/>
            <a:ext cx="9128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anglion mother cell GMC 7-1b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neuroblast NB 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evelops_fro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neuroblast NB7-1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s_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neurobl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s_a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anglion mother cell (GMC)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481040" y="4441680"/>
            <a:ext cx="1349640" cy="716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B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903040" y="4762440"/>
            <a:ext cx="12020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74800" y="404496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s_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5137200" y="4013280"/>
            <a:ext cx="419040" cy="2332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025880" y="3568680"/>
            <a:ext cx="545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eeded 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ystem to connect anatomy to s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7961400" y="4054320"/>
            <a:ext cx="218880" cy="1922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437000" y="3416400"/>
            <a:ext cx="4703760" cy="14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566040" y="3443400"/>
            <a:ext cx="1440" cy="18252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6664320" y="3927600"/>
            <a:ext cx="420840" cy="18856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2123640" y="5796000"/>
            <a:ext cx="2529000" cy="70020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270320" y="5608800"/>
            <a:ext cx="2954520" cy="30312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76200" y="6396120"/>
            <a:ext cx="437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cc0099"/>
                </a:solidFill>
                <a:latin typeface="Arial"/>
              </a:rPr>
              <a:t>Need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– system for capturing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ge specific part re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35440" y="2631960"/>
            <a:ext cx="7412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38600" y="244800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03240" y="2868480"/>
            <a:ext cx="267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 = embryonic s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developmental tim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90400" y="1979640"/>
            <a:ext cx="8229600" cy="77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8760" indent="-324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any developmental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process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e.g.- development of a whole organism) many events happen in an invariant or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se events can be used as markers of developmental progress or time. This is the basis of many standard stage se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se marker events can b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birth, death, or transformation an anatomical stru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beginning, end and key point in a developmental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eweyB</dc:creator>
  <dc:description/>
  <dc:language>en-US</dc:language>
  <cp:lastModifiedBy>DeweyB</cp:lastModifiedBy>
  <cp:revision>0</cp:revision>
  <dc:subject/>
  <dc:title/>
</cp:coreProperties>
</file>